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08252"/>
        <c:axId val="59567989"/>
      </c:barChart>
      <c:catAx>
        <c:axId val="35308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67989"/>
        <c:crosses val="autoZero"/>
        <c:auto val="1"/>
        <c:lblAlgn val="ctr"/>
        <c:lblOffset val="100"/>
        <c:noMultiLvlLbl val="0"/>
      </c:catAx>
      <c:valAx>
        <c:axId val="59567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08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22C-78DF-401E-8DF4-9EE84E9C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5F1-7593-48F2-8521-454947BB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697-423F-4D0D-AD8A-001BACB5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7F0-0320-4B53-8B10-3A85DD1D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516-7F7C-4DE9-BB40-890DC4AA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976-515F-4FA5-9846-834C56AE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5B0-EA8C-4F90-812F-3FCBF66C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786-69CA-4891-9FA1-2DD4DD78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F8B-39BD-44EF-9DE0-131DE6D2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87C-CF94-4128-BA48-17EB293E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C90-FC19-4CA0-9BB5-C4412348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C52-8237-4C36-9BB3-CFC2AAB5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E5D0A-3EDE-42B3-B2C6-A7C2DDA701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