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574751"/>
        <c:axId val="37674591"/>
      </c:barChart>
      <c:catAx>
        <c:axId val="345747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674591"/>
        <c:crosses val="autoZero"/>
        <c:auto val="1"/>
        <c:lblAlgn val="ctr"/>
        <c:lblOffset val="100"/>
        <c:noMultiLvlLbl val="0"/>
      </c:catAx>
      <c:valAx>
        <c:axId val="376745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747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1267-FD9F-4132-BBDC-E7A0704A9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573C-4FA8-4E5C-ACB0-2A52B401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1DAB-3F88-481D-8FB9-C39C1494B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5C3B-15B1-488F-A15E-66378FC49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679C-FAD1-4CD9-91C0-0082FEF4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EE65-7717-4321-9160-9B3A7519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37B2-9B2C-4D32-B46C-9EB84F4F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2157-E210-47C4-84A2-882D906B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9A81-594C-4FE9-8886-6DA09FBB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16B4-624E-45B5-A51F-79F83FDD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91E3-4849-4297-B53A-BD06AED7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B2F7-BAAC-4FBD-97FD-EBEB339C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BF71B-55A7-41E7-9488-904797270B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