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51951"/>
        <c:axId val="61781991"/>
      </c:barChart>
      <c:catAx>
        <c:axId val="73351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81991"/>
        <c:crosses val="autoZero"/>
        <c:auto val="1"/>
        <c:lblAlgn val="ctr"/>
        <c:lblOffset val="100"/>
        <c:noMultiLvlLbl val="0"/>
      </c:catAx>
      <c:valAx>
        <c:axId val="61781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51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20B-0E10-4A86-8EBA-5BFC2BF6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12A-2C77-4BE0-91FF-D88D0005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77C-8E27-410C-A82C-79AFE767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F7B-F25B-4A37-B2A7-13C892AA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1EA-1C51-4C03-A470-FB282B37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932-59ED-41E3-8A54-32DE01D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916-5223-4246-AC34-35EDBA58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1D3-F55F-413F-B349-49997DC7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E96-B812-46C3-BAFB-F5D21BE8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5B2-8A23-484D-93AC-49D3D873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3C2-C532-4BB3-9710-C4B6AACE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5E5-6417-4546-A56F-64A22BBD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87735-EB57-41E5-8D9D-28E0EDB9E4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