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86004"/>
        <c:axId val="38925766"/>
      </c:barChart>
      <c:catAx>
        <c:axId val="31886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25766"/>
        <c:crosses val="autoZero"/>
        <c:auto val="1"/>
        <c:lblAlgn val="ctr"/>
        <c:lblOffset val="100"/>
        <c:noMultiLvlLbl val="0"/>
      </c:catAx>
      <c:valAx>
        <c:axId val="3892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86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790-5659-4B92-80C4-1E7CC999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0D8-2D79-43FC-8582-7992655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286-C2FE-4158-8A58-526D2ED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DF5-B388-4482-8904-83E85CDA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77F-067A-4E9A-B5B3-2B0B020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A85-491B-4DC7-9F80-24A157F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EAF-BA14-40A9-B48A-759630A5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2B4-5F1D-48FB-8350-4EF65D6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CE8-958A-4A9B-849A-A27CB62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F34-CF33-4A1F-9FE6-03371AB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08C-95F7-49E4-BDAB-8B72AACF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CEC-6830-4C6D-9775-A06985C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A62C4-ABC9-41B7-B603-6102878659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