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88668"/>
        <c:axId val="18274883"/>
      </c:barChart>
      <c:catAx>
        <c:axId val="81488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74883"/>
        <c:crosses val="autoZero"/>
        <c:auto val="1"/>
        <c:lblAlgn val="ctr"/>
        <c:lblOffset val="100"/>
        <c:noMultiLvlLbl val="0"/>
      </c:catAx>
      <c:valAx>
        <c:axId val="18274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88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6E7-B041-4EE7-AAD9-E8EED783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02A-0FFF-493F-85C7-FADA241D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F03-98B3-4269-9004-8453C440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AD4-90DB-41A6-984B-A1F31159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1FE-4D89-4779-914C-0C881E18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857-4989-4AB0-8FC9-28CC91B0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990-3343-4C0B-A371-D7144C61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D8A-EF65-41AB-8016-43DE7327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B23-7FC4-4C7B-96FD-087E9A46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596-DD4C-4EC9-8C90-BB919964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952-2EDE-4828-8283-F9EBB285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A33-9347-45F7-88B5-9DCEED7E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96D58-5D7F-46DE-9F5A-6405813FCC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