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1723"/>
        <c:axId val="41034807"/>
      </c:barChart>
      <c:catAx>
        <c:axId val="6781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34807"/>
        <c:crosses val="autoZero"/>
        <c:auto val="1"/>
        <c:lblAlgn val="ctr"/>
        <c:lblOffset val="100"/>
        <c:noMultiLvlLbl val="0"/>
      </c:catAx>
      <c:valAx>
        <c:axId val="41034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1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8C7-961B-4BB1-80A1-71B4479A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F46-78B8-47F6-8150-E03EDF2A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252-94D2-4432-8C90-14D1C90B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16A-E0B2-4544-B076-D5254457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2FE-5432-4AFA-8F06-223B625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1C2-4198-46DD-8875-8701AF1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876-42B9-471E-9CA7-91CB8DC7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D0A-0D2D-4E1B-838A-1A91405C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C81-E290-4385-9C0C-75CD082D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DA7-E225-4515-A137-6DA33BA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157-C800-4AF5-A12C-49C80007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5D4-62E6-4CB3-BB63-FB8FAC6B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0CA6C-4597-4B9F-9686-E95C9E5350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