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91506"/>
        <c:axId val="58546626"/>
      </c:barChart>
      <c:catAx>
        <c:axId val="29191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46626"/>
        <c:crosses val="autoZero"/>
        <c:auto val="1"/>
        <c:lblAlgn val="ctr"/>
        <c:lblOffset val="100"/>
        <c:noMultiLvlLbl val="0"/>
      </c:catAx>
      <c:valAx>
        <c:axId val="58546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91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030-3A66-43DF-B96F-AC9AD5CF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C4D-3A8C-49D9-B497-0FE10966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C3F-7CEE-4FE4-AA9A-7F063556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420-47AE-40AB-86E7-86D836E7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AF3-1F8D-4DA2-8F19-48FCF336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D03-DD95-46DA-8083-263F695C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4BA-AE35-4170-B006-9F17E847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AD3-DBFD-4C19-A29A-934B3E2B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AFB-D5A5-4137-B5E8-3DFB78B0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81B-ADC0-4D8C-ABF3-D312BD4A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666-20FF-4136-8F99-5CAB9791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F15-9444-4184-B9BF-2352BECB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BAFD4-8A11-4962-A271-46F29E9861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