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379168"/>
        <c:axId val="21587894"/>
      </c:barChart>
      <c:catAx>
        <c:axId val="333791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87894"/>
        <c:crosses val="autoZero"/>
        <c:auto val="1"/>
        <c:lblAlgn val="ctr"/>
        <c:lblOffset val="100"/>
        <c:noMultiLvlLbl val="0"/>
      </c:catAx>
      <c:valAx>
        <c:axId val="215878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791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D1B2-3B94-4DCB-9C24-64E0B449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D83B-6E0A-4D36-B869-BC3D76E6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B8EE-4120-456F-B80F-32217CED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7104-810B-4C51-AA27-389E2243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F73A-40F2-436F-BE0F-E043D45C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5EDF-A89C-474B-82CC-6DFB62A7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122B-DABF-4632-970E-BB1BFF87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0206-F444-4503-9DA0-0A74A740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8EAE-7E7C-431A-A970-549A9886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C435-3C8E-4517-A7F9-363630C3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4E81-0A3C-4F11-A8C4-41DAC7A5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9EE9-E6E2-421E-AD86-DC21FE72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5AB9B-C5F8-43DC-901E-02019566B5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