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53930"/>
        <c:axId val="9888571"/>
      </c:barChart>
      <c:catAx>
        <c:axId val="74653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8571"/>
        <c:crosses val="autoZero"/>
        <c:auto val="1"/>
        <c:lblAlgn val="ctr"/>
        <c:lblOffset val="100"/>
        <c:noMultiLvlLbl val="0"/>
      </c:catAx>
      <c:valAx>
        <c:axId val="9888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53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574-B639-4F7F-B7D9-FFAD3A61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5AB-B48A-4BA3-A2BA-D2AA34E0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F5B-1039-4B3F-B8A3-B4B066F8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D86-3EC3-4C15-B9F9-A7621189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7B6-EC22-42A5-9B2F-F4DCA20B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9D6-0FDA-4A44-875A-F3D90F02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5B3E-BFB6-4180-90ED-13035E07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2B7-828C-4948-99A3-10D037D4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69E-585D-4C67-87C3-3B90859D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1F7-EE57-4F7D-8436-754F0D31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58A-15F7-45D6-A788-392BB3A1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EA8-B9C8-4151-85FD-39609D8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286F0-D8AD-4AFE-B52C-2489E6A96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