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03792"/>
        <c:axId val="93117149"/>
      </c:barChart>
      <c:catAx>
        <c:axId val="30603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17149"/>
        <c:crosses val="autoZero"/>
        <c:auto val="1"/>
        <c:lblAlgn val="ctr"/>
        <c:lblOffset val="100"/>
        <c:noMultiLvlLbl val="0"/>
      </c:catAx>
      <c:valAx>
        <c:axId val="93117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03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D78-4742-4698-8F6E-565B68D7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738-2E9F-4A88-AA14-73ADB6C8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0A6-A32F-4C2A-BD07-7824F637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F0F-B5E4-4DEE-A910-C9026D0F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5F1-E7A2-488E-8230-CD0C061A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8E9-73E8-4DD5-AE9E-EEABC2AB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038-6EF2-4052-B0B1-41A4F1B0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934-1B08-4E86-8F08-07391AF1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BF9-CAC1-4F1D-A809-ACF0D689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617-DCEA-4ECC-8B9B-EB3EFCBD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E50-4DED-4310-8B10-1C31C4C0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5F8-BB6C-453F-84A7-D5F49CFB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53E04-54E9-4FA6-B66A-C3C9690993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