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49242"/>
        <c:axId val="93775797"/>
      </c:barChart>
      <c:catAx>
        <c:axId val="7249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75797"/>
        <c:crosses val="autoZero"/>
        <c:auto val="1"/>
        <c:lblAlgn val="ctr"/>
        <c:lblOffset val="100"/>
        <c:noMultiLvlLbl val="0"/>
      </c:catAx>
      <c:valAx>
        <c:axId val="93775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9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6D51-04B7-4BE9-87B0-8AB88468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06C6-078D-450E-B9B1-C30AFF00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8B1-FF13-4B09-A4C7-97E698FC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2176-AA3E-4EF3-8238-269DC608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6B20-D5FE-4ECC-A988-465931F0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BBBD-28B7-41F0-8E36-B0F105CE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351-11E7-4941-82F8-A065C7B9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D136-04C4-421F-ADDB-0E11F0AA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FFE-15B5-4034-BEA2-4246D55E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4E11-6FD6-4D3E-961B-66DCA79D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453A-DFCF-4AF9-90E7-83D8000E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6E2-ED62-4B54-B864-669F2144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B25DE-1212-4B2E-8638-5E92BAB12D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