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7172"/>
        <c:axId val="44206818"/>
      </c:barChart>
      <c:catAx>
        <c:axId val="8497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6818"/>
        <c:crosses val="autoZero"/>
        <c:auto val="1"/>
        <c:lblAlgn val="ctr"/>
        <c:lblOffset val="100"/>
        <c:noMultiLvlLbl val="0"/>
      </c:catAx>
      <c:valAx>
        <c:axId val="44206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7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275-B8A2-4AD3-807D-85093A07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024-F0D5-4557-B7EE-F0D290C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69A-3A15-45F4-98F8-F9239262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8B5-D40A-4CC1-A061-270A032D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722-0E41-4703-A142-BD990423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EED-AD85-42DF-9DA2-82A96252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DB9-4760-4875-8D70-A85E0B19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701-A2F1-4CF2-8DDD-8F04CEA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C0B-3960-4E86-8C1B-3EF41C14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01B-F08D-4992-AB46-BB38E1AA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ED7-88C7-4108-B3E3-904672C7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9E7-CB37-4DC1-85B8-76010DF5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E5FAD-CCFF-493E-A3E1-AA437B09E3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