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89105"/>
        <c:axId val="60692125"/>
      </c:barChart>
      <c:catAx>
        <c:axId val="53689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2125"/>
        <c:crosses val="autoZero"/>
        <c:auto val="1"/>
        <c:lblAlgn val="ctr"/>
        <c:lblOffset val="100"/>
        <c:noMultiLvlLbl val="0"/>
      </c:catAx>
      <c:valAx>
        <c:axId val="60692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9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D90-A69C-482D-994B-6C347B68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F4E-25D0-4C56-9155-FA1ADCCD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954-F61E-41DB-8244-F8C45A5D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53C-3FB5-4165-B234-7B882F83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C1C-63C7-40EB-9E60-BD7F8F5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E5E-9F36-4CEF-BC45-48F240C9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743-9D2D-4F36-82AB-82E471B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468-577B-4AEC-95F7-013D2E40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5FF-9770-4FAC-BF3C-FCF95147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6FC-AEEB-4550-BF8D-13AE840C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E1E-C7BE-4379-B34F-5279B71C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832A-4AC5-43BF-B751-F554111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F9C92-A6DE-4B48-ABA9-A612A6B1A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