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197014"/>
        <c:axId val="76089760"/>
      </c:barChart>
      <c:catAx>
        <c:axId val="41197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89760"/>
        <c:crosses val="autoZero"/>
        <c:auto val="1"/>
        <c:lblAlgn val="ctr"/>
        <c:lblOffset val="100"/>
        <c:noMultiLvlLbl val="0"/>
      </c:catAx>
      <c:valAx>
        <c:axId val="760897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197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2EC-3D68-408B-B8A5-767CD2D02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7E1-63BF-43B6-9E52-1E4EF751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7586-ED3F-473F-B30C-2F2758668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7BF-F594-4951-AF43-EBA049432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A7CF-DEF6-4C5B-AEFC-6F87A795D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19F3-C5F9-451F-BA9D-FE8F12A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B142-0DB0-4B8A-BB5C-9F5F0393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422-0B22-4064-A3E1-914A3F68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E5F3-277C-45A8-B99B-6E977A71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AD3E-686E-440C-9F4A-533C0A5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00E5-CD97-4C9B-801E-10186658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168-693E-4C19-BBE3-E84BB57B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9B1C01-1904-4F9F-81CB-02341E3588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