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06026"/>
        <c:axId val="6874871"/>
      </c:barChart>
      <c:catAx>
        <c:axId val="20906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4871"/>
        <c:crosses val="autoZero"/>
        <c:auto val="1"/>
        <c:lblAlgn val="ctr"/>
        <c:lblOffset val="100"/>
        <c:noMultiLvlLbl val="0"/>
      </c:catAx>
      <c:valAx>
        <c:axId val="6874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06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842-F50B-4E39-A8C3-F697C331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9DD-F8D4-48CF-A8C5-9DCAD169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91A-8B6F-4B5E-BB68-0F8CE656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B1B-837C-4CE5-8CC8-682D13F5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6C8-7C5F-4514-B101-EDF835FE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230-A4EF-4922-86F2-F26961A5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D38-C236-4AC5-A8A7-3BC08DDF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04B-85E3-46F1-A55C-7C26659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E64-6167-4249-A061-048B8594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904-F8EB-4846-970E-C5A10E6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960-6E58-4B21-B9F0-143D650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2E1-27A4-408E-8C5A-6D49FD2B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58981-870B-4738-A7F4-0914574DFB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