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31401"/>
        <c:axId val="42089158"/>
      </c:barChart>
      <c:catAx>
        <c:axId val="11931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89158"/>
        <c:crosses val="autoZero"/>
        <c:auto val="1"/>
        <c:lblAlgn val="ctr"/>
        <c:lblOffset val="100"/>
        <c:noMultiLvlLbl val="0"/>
      </c:catAx>
      <c:valAx>
        <c:axId val="42089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31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485-6F51-4364-9417-A6FF2DD9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369-1B3E-4635-986F-E937481A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731-6A3E-4D38-8A0A-A8A4631C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C3A-CA27-4130-AB63-D4C7047F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8AB-CC46-4A0C-82DC-ADA7BFF5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6EA-67A7-4DD1-A7AB-9551C22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8B0-956D-420C-822B-D736131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AB2-6BB6-4140-82C0-C2FACE7F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604-BEF5-478C-B783-3E0E158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100-FD10-45A8-96FB-9BAE20B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752-A723-4479-A4F1-F971DB8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1B5-8191-4AFC-8A8D-6A1ED4B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5324E-ED5C-4855-B42B-6E3AF757EB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