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894364"/>
        <c:axId val="30253925"/>
      </c:barChart>
      <c:catAx>
        <c:axId val="32894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53925"/>
        <c:crosses val="autoZero"/>
        <c:auto val="1"/>
        <c:lblAlgn val="ctr"/>
        <c:lblOffset val="100"/>
        <c:noMultiLvlLbl val="0"/>
      </c:catAx>
      <c:valAx>
        <c:axId val="302539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94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8D6B-6BB3-4E6F-9BA4-8853DC69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5C8A-573C-4306-BD5B-607B2F80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2770-2C57-42BC-B56B-598B8698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AB9-1229-4A5F-86D2-9EA6BCB9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27F-FD70-421E-A9E6-5794C81A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2169-F13F-4C1D-913B-7341016C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CD97-310D-4ECA-8B40-73415B9C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BB2C-2071-4F47-8F06-C997582E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6F7-5165-4BA9-A571-8E800CDC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C01F-D138-44BF-88FE-AD76B242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19B-0613-4877-B728-06A8AC77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EAE-2591-49CC-BD92-337F6E6B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378C9-B0D4-4737-8CFC-968635E2B7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