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234693"/>
        <c:axId val="77248900"/>
      </c:barChart>
      <c:catAx>
        <c:axId val="742346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48900"/>
        <c:crosses val="autoZero"/>
        <c:auto val="1"/>
        <c:lblAlgn val="ctr"/>
        <c:lblOffset val="100"/>
        <c:noMultiLvlLbl val="0"/>
      </c:catAx>
      <c:valAx>
        <c:axId val="772489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346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FDC5-C041-410D-928D-A0A07DD1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17C0-5F9B-4B12-92FC-B9DDA44B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7CB3-3AFA-4135-95A3-04B6737F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F48B-1AC8-4943-9C90-8180E28D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C225-BBBB-4612-BA4A-7DA68C6B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333A-81E5-480B-865E-5A13855B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F5A-EB4D-4BE7-B270-D87E858F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403C-03B2-4B0D-BA86-54B20BC9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DCE4-8E35-4A9B-8F2B-E7A41032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166C-36FB-4958-BE13-9F530409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638-0C81-40D3-B46F-F21C0872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A60-363B-4ADA-BD57-1DBB8623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67CA0-6E3D-4C15-96DF-E117818250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