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195599"/>
        <c:axId val="4038739"/>
      </c:barChart>
      <c:catAx>
        <c:axId val="111955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8739"/>
        <c:crosses val="autoZero"/>
        <c:auto val="1"/>
        <c:lblAlgn val="ctr"/>
        <c:lblOffset val="100"/>
        <c:noMultiLvlLbl val="0"/>
      </c:catAx>
      <c:valAx>
        <c:axId val="40387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1955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97F-B4F2-4265-980C-FE99F27B6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7AEF-6263-44AB-89A7-97D4676A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8B59-BB96-42EB-8051-D2AB6A76B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FDD3-57C8-4902-81C7-84CE05C2A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5993-C3E4-43F9-8645-987B583F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DC85-6315-4C64-B87D-856F5812E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747-8815-44B2-9B47-2CCA13F5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8D14-CBA1-466C-BD7A-2D1EA5AF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0E8-3DA2-4A88-B389-96878A2A7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FCA-2129-4763-B8FD-4A36C41D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D95-0163-4136-946A-6D88A34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6676-FD09-4DA0-AC7E-9CBA44CB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6C0D46-8842-4737-A267-FDB170F011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