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88103"/>
        <c:axId val="22995094"/>
      </c:barChart>
      <c:catAx>
        <c:axId val="70388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95094"/>
        <c:crosses val="autoZero"/>
        <c:auto val="1"/>
        <c:lblAlgn val="ctr"/>
        <c:lblOffset val="100"/>
        <c:noMultiLvlLbl val="0"/>
      </c:catAx>
      <c:valAx>
        <c:axId val="22995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88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B55-6184-4A68-9619-60E938A1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EFD-7E5E-4641-B1F5-EB4950E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813-6923-4C83-A1BA-90EABD41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84B-6547-4E14-A024-42107B37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0CF-237B-4F28-B3D4-4CE07AB3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F61-1C2B-426D-B97B-6DCC4E12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26A-6C45-4DED-AA7B-74E2FC7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1F3-57D5-4BDF-B49E-457213E9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6E1-810C-47D2-A736-6789DCF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B52-8E39-47AC-A612-5CD38DE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447-D10F-49E4-912E-8F9FFEA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D61-68EC-4A04-9762-1E94619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546CA-F14C-4BE5-9A9C-EDD9716D0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