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437"/>
        <c:axId val="77750943"/>
      </c:barChart>
      <c:catAx>
        <c:axId val="8450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0943"/>
        <c:crosses val="autoZero"/>
        <c:auto val="1"/>
        <c:lblAlgn val="ctr"/>
        <c:lblOffset val="100"/>
        <c:noMultiLvlLbl val="0"/>
      </c:catAx>
      <c:valAx>
        <c:axId val="77750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F07-ADB3-4D78-8736-0C085211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909-75B5-4C2A-8A48-350FAFF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AAD-7465-41CE-8D43-05BDC88D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1D5-6BA8-40F5-844C-F1A47129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7BB-0133-4C8D-A6D1-CAF3DBB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DE5-5644-402D-B5F8-948D89E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AF3-FC37-4455-A639-040082D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479-F2CC-4D2E-BDE6-6EC6B69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89D-C294-4C2B-8902-C3B1529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D4F-EB03-419E-839B-706F4B9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30F-325A-4532-A641-545B430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A7E-1526-4DE3-8654-96F9579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B343F-5B26-43F6-ACD7-DC112CE08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