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306325"/>
        <c:axId val="38906305"/>
      </c:barChart>
      <c:catAx>
        <c:axId val="563063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906305"/>
        <c:crosses val="autoZero"/>
        <c:auto val="1"/>
        <c:lblAlgn val="ctr"/>
        <c:lblOffset val="100"/>
        <c:noMultiLvlLbl val="0"/>
      </c:catAx>
      <c:valAx>
        <c:axId val="389063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3063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7F67-BD63-4089-ACC9-3302605E5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6785-EC71-4B60-8AD4-EE721AB54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8ED5-4197-4F23-8AD5-9A8F51729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95F7-221A-4149-9FDE-E55CC3E80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8112-3668-4599-BDCB-67472A9EF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D1AD-6E1A-48F2-AE7F-616ADD3B3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95B8-549C-40B1-8AD6-4457F4547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4B74-FC82-4875-85AA-F020D0FB4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1CDA-5C13-4B35-ADD4-61D061DAE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C189-9F8B-459F-A264-FC7042705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B9C5-67B3-456F-A7FB-FB10CC6C8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1F44-FFB3-4C81-9A23-601C57FFE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D72809-7C5B-4DCE-872E-D38ADA6CA9B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