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4872"/>
        <c:axId val="37230119"/>
      </c:barChart>
      <c:catAx>
        <c:axId val="6214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30119"/>
        <c:crosses val="autoZero"/>
        <c:auto val="1"/>
        <c:lblAlgn val="ctr"/>
        <c:lblOffset val="100"/>
        <c:noMultiLvlLbl val="0"/>
      </c:catAx>
      <c:valAx>
        <c:axId val="37230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4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DA3-4BA6-4407-A88B-4C0F4FB0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614-D2B4-4E52-B28C-2A7C263B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6E0-08D5-44BF-AF2D-4518DB60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795-1B91-4B16-8010-4DB67BA9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73F-3E02-474F-9E02-054B9ED1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A03-A1E3-4792-9C01-C2C5A67D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9FF-63A5-445A-8074-0CCF35C2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3E4-45B3-4DEE-A513-F0702C81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02B-F10D-4295-83F5-3D4FA254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77A-A95E-4D53-A747-DEC52D48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918-D3E4-40C8-ABE5-8F208547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958-B43E-4396-AF9E-E535760F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3E499-F19F-4640-9C6A-6E7B9A3510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